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2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3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4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CAC-4AF2-449A-B37B-6F03AD3E6B9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31BE-39C6-4F8B-8319-0DC6111218D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C6D-DC77-4622-A5BE-2C079B67D3C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0472-88BC-4793-BC28-7AC590D3230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0F8-216A-453A-BE6F-B9EC65807AEB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E4C-A90B-4719-AEC4-AEA1DD1CA12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642-4447-46F2-AC6E-78FEF617BED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DD9-6559-455D-A1A9-6D89D93C26D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0D5-22C2-464E-9560-DCF56F91EDC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humanitarian instrument follow a logical approach from the objectives (savin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ave and preserve life during emergencies and their immediate aftermath) to the modality of intervention. We will concentrate on medium &amp; long term interven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110-832E-4EEC-B1D3-2F6AC42F095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A9F-0E69-4AFF-A433-959E983C131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A7CE-7911-4566-BE04-488A97D092B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endium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763E-6E0A-4E63-BAF9-C53640EB85D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F84A-1292-4D16-A1DD-4AD1FC9BC9E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6061-F843-496A-B521-A1CBE21FD2B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7B53-3F21-42F2-90A0-1C3EEADA6AB8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323-1677-4248-8243-8F791A243D5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01B-6718-4478-A9BD-B0902B1564F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883-05DE-4CE4-A2B2-E799B96F2648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1DAF-FA19-44B4-8A9B-F3300F9D901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66D-64F7-4552-9F3A-BCCD084954B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144-F8C9-4882-A254-345B33EBD75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22D-9E37-4F7A-872D-E6A9352A866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7D8-6120-44DD-8271-50572215339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1245-16A8-4964-B679-4DB75830558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5718240" y="9407520"/>
            <a:ext cx="105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0DA9-656F-49ED-9A03-4A7AEB2ED444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5718240" y="9407520"/>
            <a:ext cx="105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93DE-9E2B-466D-8912-313F672DD232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86C-0BC3-4F3D-8BA6-AE53110684C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o legal and political frame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bon Treaty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verall legal and political framework for EC interven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situations of transitions/frag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tonou Agreement: Overall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gal and political framewor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EC interventions in 79 African, Caribbean and Pacific countries (AC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6D3-F9FF-4F82-961B-45555E9C9CE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5159-AAEC-43BE-AB26-F68BAAB729F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tonou Agreement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s provisions funded from the non-programmable reserve for countries that, exceptionally, cannot access programmable resources including wherever Art. 9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(sanctions) are in place (Art 3, Annex I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Quick, light and speedy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d hoc reviews can be conducted in situations of crisis to change the CSP and/or the focal/non-focal sectors (Art 5, annex I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0449-5860-491E-8495-83C7F7BBDFD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5BE-9C7B-4ED1-A256-81E30FC19F5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D5F5-7B8B-47A8-83C7-6D431B20B5F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int Statem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the Council and the Representatives of the Governments of the Member States meeting within the Council, the European Parliament and the European Commi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out the EU policy framework and contain political commitme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mandates the EC to establish specific set of structures, procedures and modalities that allow effective respon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idance on interventions in situations of transition/fragilit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d explicitly refers to the linking of relief, rehabilitation and develop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F5A-323B-4831-B858-D9308723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10C-1061-4FE0-AC56-9DB2AD9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D3B-D4FB-4BBF-B995-D73E22F8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1EB-E63E-4CC9-B986-B6877B18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579-D4C5-41F2-A075-FD78E0CB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FAA-0E1F-4CAB-8A12-96DEA0E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2365-5BD6-4546-ADEE-5CF6FB2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96E1-4C5D-4564-8CA1-0EE9B13B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E502-60BD-463C-AFAF-1202EA88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AA95-D632-495F-849E-60DD7BD1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D51-1CD3-4AC9-9B68-D4B88E2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9E3-83A0-4E3F-88B1-D1A1A08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E89F-39C1-45B8-AE5C-18301D0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DB5-85FF-4971-9573-BF398DF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F22F-5C63-4D36-8F1F-BA837F1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C0F3-37B3-4AF1-923C-39D6961E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1C8-C02A-4C2D-94E2-C2F2A5E2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3470-2707-4E64-91F0-93428157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038F-54EB-403C-809C-67AD6D4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187C-7E6E-4D40-BB29-000C2266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968D-E23A-4098-9080-7307EE2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29D9-087B-4106-8A71-8266A08F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47C-E2B3-41C9-8C0B-4137C57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36A4-4F67-4272-88D3-1042E046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0C0D-7B7E-4F0C-9A78-30DFDF9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6508-6C3E-403C-8B53-8512817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F5C6-F3CB-46EE-882D-90ABF8E7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1996-4131-43A0-83CE-5672003B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958B-655E-493A-AA0C-08275160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9D69-24EC-455A-9B3C-38287C02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C6A-C294-4135-BE8E-FBBD767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45E-8662-4CC1-A778-BDD9377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E18-2581-44ED-A2E0-B5E3E2A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9B7-D5C0-4AA5-9368-9C76DE3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144-E4DA-4AB4-A03B-787A10A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514-9C58-4DCB-9CFE-0DC2992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46F5-1CDC-43A0-902D-3BF81CC017B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49F-7E11-4CFD-BC2C-488281D1D3DD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F15-BA0D-423A-85EE-3BDEC1EB4FB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63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65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69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70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71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2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3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0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21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21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22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22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22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386-C3B4-4EDF-96AF-8A0EDF8757F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ZoneTexte 6"/>
          <p:cNvSpPr/>
          <p:nvPr/>
        </p:nvSpPr>
        <p:spPr>
          <a:xfrm>
            <a:off x="393840" y="2031840"/>
            <a:ext cx="7975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ituations of transition and LRRD interventions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Institutional and Regulatory Framework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22 June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abelle Le Normand – Consultant on Transition and LRR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0680" y="6890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 main common elements on transition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consensus &amp; Strategy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3C’s 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coordination, complementarity and coheren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cross the various EC and EU intervention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tegrated transition strategi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a post-crisis situation development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better linkage between relief, rehabilitation and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effective, speedy intervention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situations of transition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orking into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framework of multilateral effor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cluding UN peace building commission and establish principle of ownership and partnership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Joint analysis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joint monitoring and assessmen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 other donors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Draf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 set of guidelines for intervention in countries in crisis/post crisi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.1) Overall policy framework: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uropean consensus &amp; Strateg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.2) Sector policy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ramework: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s &amp;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97" name="Picture 4" descr="MC900438493[1]"/>
          <p:cNvPicPr/>
          <p:nvPr/>
        </p:nvPicPr>
        <p:blipFill>
          <a:blip r:embed="rId3"/>
          <a:stretch/>
        </p:blipFill>
        <p:spPr>
          <a:xfrm>
            <a:off x="6567480" y="3068640"/>
            <a:ext cx="2136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U policy framework for interventions in  situations of transition 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owards an EU Response to Situations of Fragility - engaging in difficult environments for sustainable development, stability and peace, (COM(2007) 643/SEC(2007) 141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U response t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situations of fragilit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, 2831st External Relations Council meeting, Brussels, Nov 200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O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Security and Develop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, 2831st External Relations Council meeting, Brussels, Nov 2007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nd oth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ommunication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ther EC Communica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Linking relief, Rehabilitation and Development – An assessment, Com(2001)153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U strategy for supporting Disaster Risk Reduction in Developing countries, Com(2009)84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Reinforcing the Union’s Disaster Response capacity, Com(2008)130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U policy framework to assist in addressing food security challenges, Com(2010)12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Humanitarian Food Assistance, Com(2010)126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Key points in EU sector policy framework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640" y="170136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Situation analysis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No unique model, LRRD develop in broader economic, social and political context; joint analysis and assessment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Programming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(i) better incorporation of LRRD analysis/assessment in CSP/RSPs’; (ii) Increased attention to Disaster Risk Reduction at national and regional level (notably in countries prone to natural disasters); (iii) LRRD included in political dialogue; (iv) focus on vulnerable groups; (v) predictability funding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mplementation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ffective use of the EC policy tools and external action instruments; use of existing flexible tools and procedures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Coordination/complementarity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in EU (focus on joint actions and instruments) ; partnership with UN and other multilateral organisat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Risk management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ccept a level of risk to respond in timely and efficient manner to post-crisis situation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305" name="Picture 4" descr="MC900251251[1]"/>
          <p:cNvPicPr/>
          <p:nvPr/>
        </p:nvPicPr>
        <p:blipFill>
          <a:blip r:embed="rId1"/>
          <a:stretch/>
        </p:blipFill>
        <p:spPr>
          <a:xfrm>
            <a:off x="7308720" y="3860640"/>
            <a:ext cx="1297080" cy="16257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684360" y="1844640"/>
            <a:ext cx="7219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) Instruments – Implementing procedure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1) Financial instrumen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Humanitarian a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Long-term instru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2) Financial and implementing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309" name="Picture 4" descr="MC900438493[1]"/>
          <p:cNvPicPr/>
          <p:nvPr/>
        </p:nvPicPr>
        <p:blipFill>
          <a:blip r:embed="rId5"/>
          <a:stretch/>
        </p:blipFill>
        <p:spPr>
          <a:xfrm>
            <a:off x="6516720" y="292428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  <a:ea typeface="宋体"/>
              </a:rPr>
              <a:t>C.1 “Long-term” EC Financing Instruments of interventions in transition situations</a:t>
            </a:r>
            <a:endParaRPr b="1" lang="en-US" sz="26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1477800" y="2060640"/>
            <a:ext cx="6186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C) Instruments – Implementing procedure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1) Financial instrumen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2) Financial and implementing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tool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gramming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&amp; 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314" name="Picture 4" descr="MC900438493[1]"/>
          <p:cNvPicPr/>
          <p:nvPr/>
        </p:nvPicPr>
        <p:blipFill>
          <a:blip r:embed="rId3"/>
          <a:stretch/>
        </p:blipFill>
        <p:spPr>
          <a:xfrm>
            <a:off x="6516720" y="292428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16" name="_s1028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7" name="_s1029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8" name="_s1030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9" name="_s1031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0" name="_s1032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1" name="_s1033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2" name="_s1034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3" name="_s1035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4" name="_s1036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5" name="_s1037"/>
            <p:cNvSpPr/>
            <p:nvPr/>
          </p:nvSpPr>
          <p:spPr>
            <a:xfrm>
              <a:off x="5486760" y="5329080"/>
              <a:ext cx="17283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6" name="_s1038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7" name="_s1039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ng Agreement, Contract Agreement,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egation Agreement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4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nts, Contracts (Service, works..), Budget support, Programme estimate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5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1339560" y="2783160"/>
              <a:ext cx="134640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rategy evaluation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38" name="Text Box 27"/>
          <p:cNvSpPr/>
          <p:nvPr/>
        </p:nvSpPr>
        <p:spPr>
          <a:xfrm>
            <a:off x="-7560" y="930240"/>
            <a:ext cx="85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to consider intervening in transition along the project cycle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5965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9000" y="1750680"/>
            <a:ext cx="7283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bjective of this presentation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to provide an overview of the compendium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to get your feedback based on your practical experienc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Purpose of the compendium: to assist the services of the EC with quick and easy access to core aspects of the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xisting institutional and regulatory framework that impact on EC interventions in situations of transition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33280" y="4852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Principles 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2096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RR, LRRD intervention could be  identified a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focal or non-focal sect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in EU programming documents (CSP/RSPs) as fragilty, peace building and DRR interventions in post crisis situation =&gt;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key objectives for EU external relations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source alloca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shall take account of difficulties facing countries (Annex IV of Cotonou, European Consensus, Art 15, Art 18.2 DCI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llocation to cover unforeseen needs such as post-crisis situa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1 &amp; 3 of Annex IV, Cotonou, DCI article 19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d hoc review of the country's or region's cooperation strategy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 specific circumstances (crises, post conflict situations or threats to democracy, …Art 19.5 DCI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785484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consider situation of transition in the Programming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At the level of the CSP and MTR, and ad hoc review of the CSP; however, there is no specific guidance for delegations operating in situations of transition (crisis/post crisis),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Decision process: using fast track procedure (ex: for ad hoc review),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44" name="_s2052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7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8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9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0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1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3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4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5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66" name="Text Box 26"/>
          <p:cNvSpPr/>
          <p:nvPr/>
        </p:nvSpPr>
        <p:spPr>
          <a:xfrm>
            <a:off x="211320" y="9302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930240"/>
            <a:ext cx="769464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consider situation of transition in the Identification/formulation proces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here is no specific guidance for projects or programmes in situation of transition (Project Identification Fiche, Action Fiche, Annual Action Programme)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No specific consideration in the oQSG of intervention in situation of transition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70" name="_s3076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1" name="_s3077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2" name="_s3078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3" name="_s3079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4" name="_s3080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5" name="_s3081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6" name="_s3082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7" name="_s3083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8" name="_s3084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9" name="_s3085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0" name="_s3086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1" name="_s3087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3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4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5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6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7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8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0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1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92" name="Text Box 26"/>
          <p:cNvSpPr/>
          <p:nvPr/>
        </p:nvSpPr>
        <p:spPr>
          <a:xfrm>
            <a:off x="325440" y="95580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ng decision process  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Ad hoc decision and special measure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outside the AAP exceptionally and for unforeseen events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Decision proces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ast track in CIS, submission by written procedure to Members States, short term for SG and Commission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96" name="_s4100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7" name="_s4101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8" name="_s4102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9" name="_s4103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0" name="_s4104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1" name="_s4105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2" name="_s4106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3" name="_s4107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4" name="_s4108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5" name="_s4109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6" name="_s4110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7" name="_s4111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8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9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1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4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6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7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418" name="Text Box 26"/>
          <p:cNvSpPr/>
          <p:nvPr/>
        </p:nvSpPr>
        <p:spPr>
          <a:xfrm>
            <a:off x="249120" y="9050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93024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exible procedures for EDF/Budget Implementation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Use of flexible procedures authorised by DG AIDCO following Cabinet’s approval  (list of fragile state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troactive-financing of on-going ac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 171 IR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ception to call for proposals for Grant contrac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 168 IR) and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financing in ful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s a derogation to the co-financing requirement for grant actions (art 253 IR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urement contrac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services/supply/works): by negotiated procedures with a single tender in case of (art 126, art 142, art 158a IR, art 242, art 244, art 246 IR)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d hoc derogation for specific projec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 approach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27056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Budget support in fragile situation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asic functioning of the state (without real objective of policy support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contribution to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rust fund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or quick aid delivery outside national system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Legal and policy framework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o exis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ere i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vision for interventio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 transition situations within EC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isting financing instruments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ere is provision for flexibl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along the project cycle intervention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But no specific logical approach used for programming and processing intervention in situation of transition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77" name="Picture 8" descr="MC900251251[1]"/>
          <p:cNvPicPr/>
          <p:nvPr/>
        </p:nvPicPr>
        <p:blipFill>
          <a:blip r:embed="rId4"/>
          <a:stretch/>
        </p:blipFill>
        <p:spPr>
          <a:xfrm>
            <a:off x="6207120" y="2763720"/>
            <a:ext cx="1263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85440" y="2147400"/>
            <a:ext cx="72709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宋体"/>
              </a:rPr>
              <a:t>THANK YOU</a:t>
            </a:r>
            <a:endParaRPr b="0" lang="en-US" sz="4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55280" y="21063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280" y="163800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9760" y="25365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2: Could you agree on a list of improvements that HQ should decide for enabling you to better act in transition situations?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4908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1600" y="25365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3: Do you think that it would be a good idea to have a joint “humanitarian development strategic framework” for addressing very specific objectives (for example joint strategic framework (JSF) for reducing the prevalence of malnutrition or JSF for resettlement of IDP/refugees?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  <a:ea typeface="Tahoma"/>
              </a:rPr>
              <a:t>A) EU Treaty and International agreement</a:t>
            </a:r>
            <a:endParaRPr b="1" lang="en-US" sz="2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bon Treat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ACP-EU Cotonou Agreemen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80" name="Picture 9" descr="MC900438493[1]"/>
          <p:cNvPicPr/>
          <p:nvPr/>
        </p:nvPicPr>
        <p:blipFill>
          <a:blip r:embed="rId3"/>
          <a:stretch/>
        </p:blipFill>
        <p:spPr>
          <a:xfrm>
            <a:off x="6443640" y="3141720"/>
            <a:ext cx="21369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7920" y="507960"/>
            <a:ext cx="80773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Lisbon Treaty: Legal and political framework for EC interventions in situations of transition/fragility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6940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The result is two fold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objectives related to post-crisis interventions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development and humanitarian policy become part of the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 overall EU foreign policy objectiv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the Lisbon Treaty reinforces the obligation fo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stronger ‘policy mix’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here each intervention has to be the sum of the entire set of EU all external polici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the medium term, the new Treaty should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result in a more integrated and comprehensive approach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 interventions based on humanitarian, development policies and diplomatic, security and other policies and instrument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tonou Agreement: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宋体"/>
              </a:rPr>
              <a:t>legal and</a:t>
            </a:r>
            <a:r>
              <a:rPr b="1" lang="en-GB" sz="2200" spc="-1" strike="noStrike">
                <a:solidFill>
                  <a:srgbClr val="aa1f1d"/>
                </a:solidFill>
                <a:latin typeface="Verdana"/>
                <a:ea typeface="宋体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宋体"/>
              </a:rPr>
              <a:t>political framework for EC interventions in 79 ACP countries</a:t>
            </a:r>
            <a:endParaRPr b="1" lang="en-US" sz="2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5040" y="15696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licit commitment to address situations of transition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inforce relation betwee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eace, security and developmen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inforce the need to link to crisis-prevention, early warning and disaster preparedness, disaster risk reduction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Underline the need to intervene in a strategic and effective mann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rough a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tegrated respons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volving diplomatic, security, development and special emergency measures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efine the crisi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nd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post emergency ac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72),  implementing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73), and interventions in exceptional situations (Art 96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286" name="Picture 4" descr="MC900251251[1]"/>
          <p:cNvPicPr/>
          <p:nvPr/>
        </p:nvPicPr>
        <p:blipFill>
          <a:blip r:embed="rId1"/>
          <a:stretch/>
        </p:blipFill>
        <p:spPr>
          <a:xfrm>
            <a:off x="6948360" y="2349360"/>
            <a:ext cx="1297080" cy="16257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84360" y="1844640"/>
            <a:ext cx="6940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0773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B.1) Overall policy framework: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European consensus &amp; Strategy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B.2) Sector policy framework: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s &amp;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90" name="Picture 4" descr="MC900438493[1]"/>
          <p:cNvPicPr/>
          <p:nvPr/>
        </p:nvPicPr>
        <p:blipFill>
          <a:blip r:embed="rId3"/>
          <a:stretch/>
        </p:blipFill>
        <p:spPr>
          <a:xfrm>
            <a:off x="6546960" y="342900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1) Overall policy framework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uropean consensus &amp; Strategy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Humanitarian Consensu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(2008/C 25/01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Development Consensus =&gt; The European Consensu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(2006/C 46/01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U Security Strateg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(report the implementation of the Europe security strategy – proving security in a changing world – Approved by Council December 2008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gualdla</cp:lastModifiedBy>
  <cp:lastPrinted>2003-11-06T16:40:02Z</cp:lastPrinted>
  <dcterms:modified xsi:type="dcterms:W3CDTF">2010-08-25T10:06:22Z</dcterms:modified>
  <cp:revision>926</cp:revision>
  <dc:subject/>
  <dc:title>No Slide Title</dc:title>
</cp:coreProperties>
</file>